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0F9-082F-46CE-A358-2396EA68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AF6-98E1-4472-8C8E-BCC135F3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DC1-4009-4588-9E2D-00B38C66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6A5-D914-45FB-A825-89F6AED4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E7B1-40C1-4E05-9F57-989A5BEE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6046-02B7-4F89-B5BC-9867399D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C3EC-68EE-478A-821F-C88F4150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9CA-D057-4328-AE1D-CDF43660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8B7F-566E-483A-9B91-3A734752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099F-CC89-44A8-BF1F-80944917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62A4-DA74-430A-A6AB-ED3AB34A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A46-E04F-43BE-803D-F60CA7EC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F0C7-0F9B-4C47-98E7-73057933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7E99-5B12-4C33-B281-D82D0B5A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2D1C-BC64-42AF-9D6C-B8D0E5B6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F706-E065-4B93-A3C2-9705CE09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EAF2-3A52-445C-9107-4B63945F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D07-6A67-4550-9F43-072D2E67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3D8-10FC-4092-B81D-682A2003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5A3-0997-4D33-8EE0-7E307295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D19-1240-42DD-B131-A6584F50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741-1DB1-48B5-B12E-AEF5C5AB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F27-7662-43F8-9525-21C8ED49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463-51D1-4429-9EF6-03FCB261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662F-A545-4CAB-81D1-B53816987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1B20-CDF8-4136-B31D-D449BC398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arly American Histo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Peo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nting, gathering and farming were important parts for the Native American life styl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r, fish, roots, nuts, berries, corn, beans, squash, melons and other crops were e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out the Native American’s history they have been in turmoil with each ot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648320" y="1828800"/>
            <a:ext cx="3657600" cy="3581280"/>
            <a:chOff x="4648320" y="1828800"/>
            <a:chExt cx="3657600" cy="35812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4648320" y="1828800"/>
              <a:ext cx="365760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4648320" y="1828800"/>
              <a:ext cx="3657600" cy="35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lon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y – is a settlement that is ruled by a faraway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e reasons people came to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us freedom, ri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some items people traded or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in, flour, lumber, furs, dried meat &amp; salted f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up own government, wrote laws, elected own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876920" y="1828800"/>
            <a:ext cx="3427200" cy="3840120"/>
            <a:chOff x="4876920" y="1828800"/>
            <a:chExt cx="3427200" cy="384012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4876920" y="1828800"/>
              <a:ext cx="34272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4876920" y="1828800"/>
              <a:ext cx="3427200" cy="384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to complete your webquest on Early American Histo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j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5908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3:07:04Z</dcterms:created>
  <dc:creator>College of Education</dc:creator>
  <dc:description/>
  <dc:language>en-US</dc:language>
  <cp:lastModifiedBy>College of Education</cp:lastModifiedBy>
  <dcterms:modified xsi:type="dcterms:W3CDTF">2009-07-21T13:22:36Z</dcterms:modified>
  <cp:revision>4</cp:revision>
  <dc:subject/>
  <dc:title>Early American History</dc:title>
</cp:coreProperties>
</file>